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930-A311-41D1-8D65-D8E5EF99F9B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EC2A-5A29-4CE1-8D43-9060CAEE1D0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B50-2316-4212-8809-F25E4B4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D27-F2CE-49F5-92E1-CDC1180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018-D4E2-4C82-8873-4F47BCC8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3CD-3B9D-4528-A840-01F23998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2BBE-3461-4419-95C2-DBDAA418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82D1-F30A-4358-A077-ECE7A21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B8FC-00CE-44B7-A8E4-D97C83EE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E293-B75E-40F8-A5FA-E2DDEA1C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DDF5-50E5-46D2-8127-0FD153B1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0683-E91B-4AAD-80FD-BFB7F2B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B6B8-03C2-4782-9396-12E0893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BBF-A35C-4DD4-8AF9-2BF9B691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DD30-0796-4DFB-99CE-B194E1A9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ACD4-1416-43D1-8A96-9C94BA71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166D-CFBC-4290-B9F4-62DAEB23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FA6E-3C25-4374-9C78-3D8A4C89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E5F7-F98C-4484-A9C7-B41BD868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0F95-10A1-438E-9C9B-666F585A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5F00-812C-4EAD-8B3C-C5A53B77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1BEE-BA7B-439F-8786-FADDF619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8830-AB21-4852-92F4-3B3433F2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5253-78F4-421A-AA12-67E0624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3C1-3C91-48E1-9702-4016445D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12B7-BB02-4E74-9208-A3470CAC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6DD9-38CE-4077-B03B-764C84D4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EC71-A7FF-409E-9693-EC4806B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108F-2738-4B89-A0E7-07381881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AD60-33F8-4A4C-8F79-249422D1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B56E-5EFB-494D-8717-517A3FD1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DB9B-32F4-4881-B714-84129B12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843E-E2F9-46DA-8265-47942E14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D143-2F28-4416-8CEC-8A206AA3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370F7-0C56-42F1-BF24-1DD9F7E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138-5DD4-4072-9E8A-79CA1FB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D818-2A25-4FAD-A377-91BC674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5D57A-0E14-4608-99C4-3255959D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486E9-80FA-416D-8A87-48CA8473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4321-2701-4340-B5CD-2DDB5F8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F198-0C4C-4602-8F36-F31E380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514E-E252-4440-9E86-7D44749A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C83E-3AE9-4EA4-A437-83F195F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F583-EBD6-4A36-B48F-4E533F9A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7A396-2227-496C-A0CB-C949029F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70BB-A40C-42E2-9AEA-DA389F8C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9F9-DA92-413C-BF8E-7F5666F7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C8FE4-F622-425B-B7EB-4DFF51F5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4E8B-5C3D-4D43-AE84-A4A4CBF1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30B4C-B872-4AB9-81A6-F183390F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2626-C397-446A-BD10-D7AD1B8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0B55-E4B1-4FF8-A25C-B753FAB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1F20-C17C-4D13-9ACA-E1ED22B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0A1F-CE30-46BD-9BD9-B0CB3A5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E1BB6-3B97-4BC9-B79D-B7B70F35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35A7-BFE0-47AD-8C3D-FD998B99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E501-4917-4215-9966-42944AF4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9C5-4675-4E12-8BCB-7BD90CAE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2281-1F31-4C48-A788-91CDF72F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2275-1C54-4358-8C26-74D4BF93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B661-F74A-4399-89C7-51482FFF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9E0E7-CAA5-4BF4-9BB9-2B97F30E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7537E-EC2E-4786-B5FE-781A583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A354C-61BB-4712-8475-180289A0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E08C1-DE46-4DC8-B7FE-86A80C4E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DBE8-6140-433C-BB72-2DC6993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31C6-FEFD-464E-A92C-818107D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F2D37-23A4-445B-ACA9-A923981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A6F-1332-4224-A6BB-6AAFEB35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8B4C-B52A-4AF0-8283-FB58E088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AAB16-4E93-4E3E-A13E-04C2BAA1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D5609-FDCA-4103-A596-E279471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361-A14B-4A3D-95E3-9C86DFD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830-47E0-49FD-9A01-3552B30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4E8-0F9F-4457-8277-803F8C3E8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1807-C5B8-49A3-B1AA-31A3DAB63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1A8-4523-4DDE-BD41-1F88526273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E4E7-F7D9-487C-BC3B-0BE6D11C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7C54-2DFC-422E-87F3-6A745B673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7B4E-2C2E-4E3A-8432-5ECB908F8A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Amy.Audoux\AppData\Local\Microsoft\Windows\Temporary Internet Files\Content.IE5\NHVS7DH2\MP900422600[1]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j0186348"/>
          <p:cNvPicPr/>
          <p:nvPr/>
        </p:nvPicPr>
        <p:blipFill>
          <a:blip r:embed="rId1"/>
          <a:stretch/>
        </p:blipFill>
        <p:spPr>
          <a:xfrm>
            <a:off x="609480" y="68580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MCj02807370000[1]"/>
          <p:cNvPicPr/>
          <p:nvPr/>
        </p:nvPicPr>
        <p:blipFill>
          <a:blip r:embed="rId2"/>
          <a:stretch/>
        </p:blipFill>
        <p:spPr>
          <a:xfrm>
            <a:off x="3505320" y="6858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MCj03976120000[1]"/>
          <p:cNvPicPr/>
          <p:nvPr/>
        </p:nvPicPr>
        <p:blipFill>
          <a:blip r:embed="rId3"/>
          <a:stretch/>
        </p:blipFill>
        <p:spPr>
          <a:xfrm>
            <a:off x="6553080" y="5335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MCj03985530000[1]"/>
          <p:cNvPicPr/>
          <p:nvPr/>
        </p:nvPicPr>
        <p:blipFill>
          <a:blip r:embed="rId4"/>
          <a:stretch/>
        </p:blipFill>
        <p:spPr>
          <a:xfrm>
            <a:off x="762120" y="3733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MCj04321010000[1]"/>
          <p:cNvPicPr/>
          <p:nvPr/>
        </p:nvPicPr>
        <p:blipFill>
          <a:blip r:embed="rId5"/>
          <a:stretch/>
        </p:blipFill>
        <p:spPr>
          <a:xfrm>
            <a:off x="3809880" y="38098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MCj02328920000[1]"/>
          <p:cNvPicPr/>
          <p:nvPr/>
        </p:nvPicPr>
        <p:blipFill>
          <a:blip r:embed="rId6"/>
          <a:stretch/>
        </p:blipFill>
        <p:spPr>
          <a:xfrm>
            <a:off x="6705720" y="35812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orsque tu penses aux provinces Atlantiques,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à quoi penses-tu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is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ll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rrit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r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m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itiq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n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vironne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r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lors, qu’est-ce que c’es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CULTURE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ULTURE est la ma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ère de vivre partagée par un groupe de personnes.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  <a:ea typeface="Tahoma"/>
              </a:rPr>
              <a:t> Elle reflète ce que nous sommes et qui nous som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A CULTURE comprend plusieurs différents asp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s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aspects de la cultur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69" name="Diagram 5"/>
          <p:cNvGrpSpPr/>
          <p:nvPr/>
        </p:nvGrpSpPr>
        <p:grpSpPr>
          <a:xfrm>
            <a:off x="2286000" y="1905120"/>
            <a:ext cx="4417560" cy="4809240"/>
            <a:chOff x="2286000" y="1905120"/>
            <a:chExt cx="4417560" cy="4809240"/>
          </a:xfrm>
        </p:grpSpPr>
        <p:sp>
          <p:nvSpPr>
            <p:cNvPr id="370" name="_s1030"/>
            <p:cNvSpPr/>
            <p:nvPr/>
          </p:nvSpPr>
          <p:spPr>
            <a:xfrm flipH="1">
              <a:off x="3544920" y="4404960"/>
              <a:ext cx="514440" cy="32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031"/>
            <p:cNvSpPr/>
            <p:nvPr/>
          </p:nvSpPr>
          <p:spPr>
            <a:xfrm>
              <a:off x="2286000" y="4404960"/>
              <a:ext cx="133848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’environn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ys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032"/>
            <p:cNvSpPr/>
            <p:nvPr/>
          </p:nvSpPr>
          <p:spPr>
            <a:xfrm>
              <a:off x="4571640" y="4733280"/>
              <a:ext cx="0" cy="661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_s1033"/>
            <p:cNvSpPr/>
            <p:nvPr/>
          </p:nvSpPr>
          <p:spPr>
            <a:xfrm>
              <a:off x="3978720" y="5394960"/>
              <a:ext cx="118512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`histoi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1034"/>
            <p:cNvSpPr/>
            <p:nvPr/>
          </p:nvSpPr>
          <p:spPr>
            <a:xfrm>
              <a:off x="5083200" y="4404960"/>
              <a:ext cx="514440" cy="32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1035"/>
            <p:cNvSpPr/>
            <p:nvPr/>
          </p:nvSpPr>
          <p:spPr>
            <a:xfrm>
              <a:off x="5518800" y="4404960"/>
              <a:ext cx="118476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 vie socia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_s1036"/>
            <p:cNvSpPr/>
            <p:nvPr/>
          </p:nvSpPr>
          <p:spPr>
            <a:xfrm flipV="1">
              <a:off x="4917240" y="3085200"/>
              <a:ext cx="423360" cy="48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_s1037"/>
            <p:cNvSpPr/>
            <p:nvPr/>
          </p:nvSpPr>
          <p:spPr>
            <a:xfrm>
              <a:off x="5289480" y="2097360"/>
              <a:ext cx="118476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 v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économ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1038"/>
            <p:cNvSpPr/>
            <p:nvPr/>
          </p:nvSpPr>
          <p:spPr>
            <a:xfrm flipH="1" flipV="1">
              <a:off x="3733200" y="3085200"/>
              <a:ext cx="456840" cy="49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1039"/>
            <p:cNvSpPr/>
            <p:nvPr/>
          </p:nvSpPr>
          <p:spPr>
            <a:xfrm>
              <a:off x="2816640" y="1905120"/>
              <a:ext cx="118512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 v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lit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1040"/>
            <p:cNvSpPr/>
            <p:nvPr/>
          </p:nvSpPr>
          <p:spPr>
            <a:xfrm>
              <a:off x="3978720" y="3417120"/>
              <a:ext cx="118512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 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es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aspects de la cultur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Tahoma"/>
              </a:rPr>
              <a:t>L`environnement physique: 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omment les gens interviennent-ils dans leur environnement physiqu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Tahoma"/>
              </a:rPr>
              <a:t>L`histoire: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 Quelles sont les origines de la culture et comment les événements ont-ils donné lieu à des changements avec le temp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Tahoma"/>
              </a:rPr>
              <a:t>La vie sociale: 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omment est-ce que les individus et les groupes de la société réagissent-ils les uns envers les autres? Quelles sont les religions, les valeurs, les tradi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[cont.]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Tahoma"/>
              </a:rPr>
              <a:t>La vie économique: 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Comment les gens gagnent-ils leur vie? Comment leur travail influence-t-il leur style de 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Tahoma"/>
              </a:rPr>
              <a:t>La vie politique: 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Comment les individues qui forment la société s`organisent-ils pour vivre ensemble dans la paix et la sécurité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15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’est-ce que les images suivantes nous disent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à propos de notre société?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-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Pour les 3 prochains écrans, explique ce qu’on peut apprendre à propos de notre culture en regardant les images. Considère les 5 aspects de la culture.  (***Il y a 6 photos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ea typeface="Tahoma"/>
              </a:rPr>
              <a:t>séparées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 sur le dernier écran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5ffff"/>
                </a:solidFill>
                <a:latin typeface="Tahoma"/>
              </a:rPr>
              <a:t>Qu`est-ce que la photo nous dit à propos de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87" name="Content Placeholder 5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`environnement:  Un climat froid influence nos activité en hiver. Le hockey est un sport très populaire et le Canada est très bon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`histoire: Le Canada est connu pour la création du sport au début du 19</a:t>
            </a:r>
            <a:r>
              <a:rPr b="0" lang="fr-CA" sz="1400" spc="-1" strike="noStrike" baseline="30000">
                <a:solidFill>
                  <a:srgbClr val="ffffff"/>
                </a:solidFill>
                <a:latin typeface="Tahoma"/>
              </a:rPr>
              <a:t>ième</a:t>
            </a: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 siècle. Le sport est considéré comme le plus populaire au Canada et est joué par des millions autour du pay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a vie sociale: Un des loisir le plus populaire, les canadiens se réunissent pour célébrer leurs équipes préférées autour du pays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a vie économique: 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a vie politique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:\Users\Amy.Audoux\AppData\Local\Microsoft\Windows\Temporary Internet Files\Content.IE5\572QX012\MP900406592[1].jpg"/>
          <p:cNvPicPr/>
          <p:nvPr/>
        </p:nvPicPr>
        <p:blipFill>
          <a:blip r:embed="rId1"/>
          <a:stretch/>
        </p:blipFill>
        <p:spPr>
          <a:xfrm>
            <a:off x="380880" y="533520"/>
            <a:ext cx="8421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4:23:48Z</dcterms:created>
  <dc:creator>Administrator</dc:creator>
  <dc:description/>
  <dc:language>en-US</dc:language>
  <cp:lastModifiedBy>ED18</cp:lastModifiedBy>
  <dcterms:modified xsi:type="dcterms:W3CDTF">2015-01-28T02:19:17Z</dcterms:modified>
  <cp:revision>35</cp:revision>
  <dc:subject/>
  <dc:title>Slide 1</dc:title>
</cp:coreProperties>
</file>